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6FF-22C4-43E0-A8CC-CE2C35A3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4AC-977B-4D66-905E-5CEAEE7C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D05-06DF-493A-A200-7BB0D0F4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FB8-8BC6-4C96-B3B5-45CA95EE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4B90-D44A-4800-A134-7A5608D6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3DC4-C2E6-43D0-B217-EC334783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2EBF-E61D-418A-8782-0D33A7FC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8F21-C81C-488E-86AC-E700DC81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09D3-4721-4464-B9B4-88CFD913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B526-756E-4799-8412-6F030029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53B8-85F3-406E-AC63-FC39F729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665-EA6E-42FD-98CC-9DA57DAC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ED9C-FD59-4247-AFBE-C8ED45D1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D77E-4243-4263-9246-ACFE5C12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FD58-8759-4D6E-881F-8FD38A06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7C78-1DD6-4364-940F-3189F1F5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90DB-62C6-40F2-86F8-D7751E68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1982D-0D0D-4C2D-AB17-F41C10A4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70B01-0A6C-476B-BA1D-EBECE285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7913F-B335-4572-8FD6-2CAAF06A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CAF79-1D81-45A5-9534-EF4E54B1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0DE02-58F8-496F-BBFA-F9ABB4B1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45A-394D-4366-A53C-79D386B3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0AC5A-31D7-4C31-AFEC-AFBCD121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16D95-25A2-4635-A225-3A4EDEF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A8564-42FD-45B7-A846-416CD51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CC2BE-1620-4A1E-8E26-628DEA0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F5436-2D79-4FA6-81B0-E101AA51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6B979-D6A4-4D1F-A0AF-B6927B74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0BBAA-79CE-4F20-897F-DB199805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896-381B-4D8D-B8E2-E3DE6E0A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12C-5B34-4014-964F-EB5993B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289-9CC4-45DC-90DB-9C1C5116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EC3-7333-440A-8690-471A11B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091-679F-4CF5-BD09-C1552A7B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389-0427-47A7-8F56-2F60DDD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2595-A359-415C-ABBE-B120FCA95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182C-ED67-4C92-8727-59EEDFC5D5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4D85-E29D-48AC-99BB-C9CC4CCE2D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92440" y="442800"/>
          <a:ext cx="5559120" cy="1384560"/>
        </p:xfrm>
        <a:graphic>
          <a:graphicData uri="http://schemas.openxmlformats.org/drawingml/2006/table">
            <a:tbl>
              <a:tblPr/>
              <a:tblGrid>
                <a:gridCol w="5559120"/>
              </a:tblGrid>
              <a:tr h="138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инистерство науки и высшего образования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едеральное государственное бюджетное образовательное учреждение  высшего образ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узбасский государственный технический университет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ени Т.Ф. Горбачев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9"/>
          <p:cNvSpPr/>
          <p:nvPr/>
        </p:nvSpPr>
        <p:spPr>
          <a:xfrm>
            <a:off x="0" y="18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440" y="1827360"/>
          <a:ext cx="5559120" cy="744480"/>
        </p:xfrm>
        <a:graphic>
          <a:graphicData uri="http://schemas.openxmlformats.org/drawingml/2006/table">
            <a:tbl>
              <a:tblPr/>
              <a:tblGrid>
                <a:gridCol w="5559120"/>
              </a:tblGrid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Л. Евменова Т. Е. Вахон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071800" y="2565360"/>
          <a:ext cx="5279760" cy="1506600"/>
        </p:xfrm>
        <a:graphic>
          <a:graphicData uri="http://schemas.openxmlformats.org/drawingml/2006/table">
            <a:tbl>
              <a:tblPr/>
              <a:tblGrid>
                <a:gridCol w="5279760"/>
              </a:tblGrid>
              <a:tr h="15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охочение</a:t>
                      </a:r>
                      <a:br>
                        <a:rPr sz="28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 к лекционному курсу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лабораторному практикуму по дисциплин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одготовительные процессы обогащения полезных ископаем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23"/>
          <p:cNvSpPr/>
          <p:nvPr/>
        </p:nvSpPr>
        <p:spPr>
          <a:xfrm>
            <a:off x="0" y="361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14720" y="4429080"/>
          <a:ext cx="5371920" cy="944640"/>
        </p:xfrm>
        <a:graphic>
          <a:graphicData uri="http://schemas.openxmlformats.org/drawingml/2006/table">
            <a:tbl>
              <a:tblPr/>
              <a:tblGrid>
                <a:gridCol w="537192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омендовано в качестве материала к лекционному курсу и лабораторному практикуму учебно-методической комиссией специальности 21.05.04 Горное дело, специализации 06  «Обогащение полезных ископаемых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30"/>
          <p:cNvSpPr/>
          <p:nvPr/>
        </p:nvSpPr>
        <p:spPr>
          <a:xfrm>
            <a:off x="0" y="50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071800" y="5572080"/>
          <a:ext cx="5384520" cy="720720"/>
        </p:xfrm>
        <a:graphic>
          <a:graphicData uri="http://schemas.openxmlformats.org/drawingml/2006/table">
            <a:tbl>
              <a:tblPr/>
              <a:tblGrid>
                <a:gridCol w="538452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мерово 20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37"/>
          <p:cNvSpPr/>
          <p:nvPr/>
        </p:nvSpPr>
        <p:spPr>
          <a:xfrm>
            <a:off x="1800" y="59576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2700360" y="54936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еимущества таких си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19280" y="1197000"/>
            <a:ext cx="56894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пособность выдерживать высокие нагруз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Длительный срок служ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340000" y="2924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700360" y="2852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619280" y="2924280"/>
            <a:ext cx="5545080" cy="16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именяют для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редварительного и подготовите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ухого и мокрого грохо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411280" y="494172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рок службы листовых сит – 700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411280" y="620640"/>
            <a:ext cx="381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ahoma"/>
              </a:rPr>
              <a:t>3. Резиновые сита ( решета)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534"/>
          <p:cNvPicPr/>
          <p:nvPr/>
        </p:nvPicPr>
        <p:blipFill>
          <a:blip r:embed="rId1"/>
          <a:stretch/>
        </p:blipFill>
        <p:spPr>
          <a:xfrm>
            <a:off x="900000" y="1341360"/>
            <a:ext cx="3600720" cy="28814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5508720" y="1341360"/>
            <a:ext cx="216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Преимущества 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932360" y="1844640"/>
            <a:ext cx="3743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рок службы таких решет значительно больше по сравнению с металлически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Они меньше забиваются и снижают шу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84360" y="4653000"/>
            <a:ext cx="7489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Применяются для грохочения материала крупностью до 100 мм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826920" y="5373720"/>
            <a:ext cx="71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Средний срок службы достигает 2000ч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268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403280" y="692280"/>
            <a:ext cx="619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ahoma"/>
              </a:rPr>
              <a:t>4. Проволочные сита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960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1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1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8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88360" cy="39718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340000" y="6206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летение проволочных с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1280" y="5373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Частично рифле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49236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Рифле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5867280" y="5373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ложно рифле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2195640" y="4762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еимущество таких сит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979640" y="1052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ысокий коэффициент живого се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843280" y="1916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едостаток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979640" y="2492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еравномерный износ с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79640" y="335772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именяют для мелкого грохоч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124000" y="422100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рок службы зависит от конкретных условий эксплуатации ( 5 – 40 дней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547640" y="620640"/>
            <a:ext cx="597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ahoma"/>
              </a:rPr>
              <a:t>5. Шпальтовые сита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шпальт"/>
          <p:cNvPicPr/>
          <p:nvPr/>
        </p:nvPicPr>
        <p:blipFill>
          <a:blip r:embed="rId1"/>
          <a:stretch/>
        </p:blipFill>
        <p:spPr>
          <a:xfrm>
            <a:off x="1547640" y="1268280"/>
            <a:ext cx="5977080" cy="39927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1116000" y="5516640"/>
            <a:ext cx="684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Применяются для обезвоживания и мелкого грохочен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1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1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2268360" y="765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Грох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39640" y="1484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Классификация грохотов по перемещению материала 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00000" y="2133720"/>
            <a:ext cx="76327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Под действием силы тяжести (гравитационное перемещение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Колосниковый грохо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За счет вибраций сита (вибрационное перемещ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ибрационный грох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амоцентрирующийся грох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ероятностный грох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од действием струи жидкости (гидравлическое перемещение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Дуговой грох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116000" y="15573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Грохоты характеризуются следующими главными особенностями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116000" y="2565360"/>
            <a:ext cx="655308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Характером движения просеивающей поверхности или способом перемещения матери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Геометрической формой просеивающей поверхности и конструкцией ее элемен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асположением просеивающей поверхности относительно  горизонтальной плоск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547640" y="6922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Факторы, влияющие на эффективность грохочения 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476360" y="1628640"/>
            <a:ext cx="66978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асыпная плот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геометрическая форма и относительный размер зер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лажность матери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гранулометрический соста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форма отверстий просеивающей поверх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размер поверхности грохо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ысота слоя матери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угол наклона просеивающей поверх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корость движения зерен по просеивающей поверх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итание грох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мплитуда и частота колебаний короб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265800" cy="44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1909800"/>
          <a:ext cx="208080" cy="21225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122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6"/>
          <p:cNvSpPr/>
          <p:nvPr/>
        </p:nvSpPr>
        <p:spPr>
          <a:xfrm>
            <a:off x="1800" y="4032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2411280" y="549360"/>
            <a:ext cx="408960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ahoma"/>
              </a:rPr>
              <a:t>Колосниковый грохот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Tahoma"/>
              </a:rPr>
              <a:t>(общий вид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1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1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524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-55800" y="-262080"/>
            <a:ext cx="96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Рецензенты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342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53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292720" y="5288400"/>
            <a:ext cx="341640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збасский государственный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ический университет имен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. Ф. Горбачева, 202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менова Г. Л., Вахонина Т. 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ление, 202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71680" y="928800"/>
            <a:ext cx="82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ейн М. С., проф. кафедры обогащения полезных ископаем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бровникова А. А.,  председатель учебно-методической комиссии специальности 21.05.04 Горное дело специализации «06 Обогащение полезных ископаемых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658960" y="404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ент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71680" y="1857240"/>
            <a:ext cx="784836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менова Галина Львовна, Вахонина Татьяна Евгеньевна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охочение :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 к лекционному курсу и  лабораторному практикуму по дисциплине  «Подготовительные процессы обогащения полезных ископаемых» [Электронный ресурс] : для обучающихся всех форм обучения направления подготовки (специальности) 21.05.04 Горное дело специализации «06 Обогащение полезных ископаемых»  / Г. Л. Евменова. – Электрон. дан. – Кемерово : Кузбасский государственный технический университет имени Т. Ф. Горбачева, 2023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электрон. опт. диск 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; зв. ; цв. ; 12 см. – Систем. требования 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tium IV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; ОЗУ 8,06 Мб ;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XP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исковод) ; мышь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гл. с экрана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булгаков рис12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187280" y="1125360"/>
            <a:ext cx="6624720" cy="38721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1547640" y="515772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колосники; 2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болты; 3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стяжки для жестк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4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бокови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071800" y="476280"/>
            <a:ext cx="5643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Принципиальная схема колосникового грохот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1547640" y="76500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остоинства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692360" y="126828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979640" y="134136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ростота, дешевиз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Большая пр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627280" y="2492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едостатки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908000" y="3068640"/>
            <a:ext cx="511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изкая эффективность грохо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изкая производи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еобходима большая высота помещ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050920" y="486900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именяют для крупного грохо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5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191280" cy="46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0" y="1838160"/>
          <a:ext cx="208080" cy="2237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2370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6"/>
          <p:cNvSpPr/>
          <p:nvPr/>
        </p:nvSpPr>
        <p:spPr>
          <a:xfrm>
            <a:off x="1800" y="4074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826920" y="620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ибрационный грохот с самобалансным вибровозбудител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335640" cy="324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1476360" y="4797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горизонтальный короб грохота; 2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амортизатор;    3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опорная конструкция; 4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самобалансный вибровозбудитель; 5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дебалансный груз;                    6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просеивающая поверх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214280" y="549360"/>
            <a:ext cx="587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инципиальная схема вибрационного грох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380360" cy="266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900000" y="981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азличные положения дебалансных грузов при вращении валов вибровозбудите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1547640" y="76500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остоинства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050920" y="1341360"/>
            <a:ext cx="48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ысокая производи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ысокая эффективность грохо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627280" y="2492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едостатки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050920" y="3068640"/>
            <a:ext cx="511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Четыре подшипника для двух вал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ара зубчатых кол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Герметичный корпус с масляной ван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971640" y="4724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рименяют для грохочения руд; обезвоживания углей, горючих сланцев; операций мокрой классификации; отделение суспензии от продуктов разделения в тяжелых сред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7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0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Object 4"/>
          <p:cNvGraphicFramePr/>
          <p:nvPr/>
        </p:nvGraphicFramePr>
        <p:xfrm>
          <a:off x="971640" y="1052640"/>
          <a:ext cx="7127640" cy="51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712764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6"/>
          <p:cNvSpPr/>
          <p:nvPr/>
        </p:nvSpPr>
        <p:spPr>
          <a:xfrm>
            <a:off x="2268360" y="476280"/>
            <a:ext cx="63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амоцентрирующийся грохот (общий ви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1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1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6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2278080"/>
          <a:ext cx="208080" cy="1660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6606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2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4176720" cy="2673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4176720" cy="23986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7"/>
          <p:cNvSpPr/>
          <p:nvPr/>
        </p:nvSpPr>
        <p:spPr>
          <a:xfrm>
            <a:off x="1979640" y="3716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ffff00"/>
                </a:solidFill>
                <a:uFillTx/>
                <a:latin typeface="Tahoma"/>
              </a:rPr>
              <a:t>А - 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5219640" y="1197000"/>
            <a:ext cx="345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ороб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ито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махов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шкив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дебалансный гру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одшипник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эксцентриковая заточка   на вал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а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ружины для подвеса короба к неподвижным конструкци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электродвигатель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ружинные амортизато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линоременная передач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571680" y="404640"/>
            <a:ext cx="6376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Принципиальная схема самоцентрирующегося грохот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85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6" dur="385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8" dur="385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0" dur="385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7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78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79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79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80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1547640" y="90792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остоинства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050920" y="1413000"/>
            <a:ext cx="48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ысокая производи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ысокая эффективность грохо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627280" y="25653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едостатки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050920" y="314172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Большая нагрузка на в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258920" y="4221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рименяют для грохочения перед дробилками среднего и мелкого дроб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2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2556000" y="476280"/>
            <a:ext cx="345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ahoma"/>
              </a:rPr>
              <a:t>Вероятностный грохот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746520" cy="5184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384720" cy="2889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5003640" y="400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1 – короб грохота; 2 – пружины; 3 – привод грохота; 4 – сита;      5 – крупные классы; 6 – мелкие клас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4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5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2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02560" cy="3301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ffff66"/>
                </a:solidFill>
                <a:latin typeface="Tahoma"/>
              </a:rPr>
              <a:t>Грохочение</a:t>
            </a:r>
            <a:br>
              <a:rPr sz="4000"/>
            </a:b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ПОДГОТОВИТЕЛЬНЫЕ</a:t>
            </a:r>
            <a:r>
              <a:rPr b="0" lang="ru-RU" sz="3200" spc="-1" strike="noStrike">
                <a:solidFill>
                  <a:srgbClr val="ff4f4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ПРОЦЕССЫ</a:t>
            </a:r>
            <a:r>
              <a:rPr b="0" lang="ru-RU" sz="3200" spc="-1" strike="noStrike">
                <a:solidFill>
                  <a:srgbClr val="ff4f4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ОБОГАЩЕНИЯ ПОЛЕЗНЫХ</a:t>
            </a:r>
            <a:r>
              <a:rPr b="0" lang="ru-RU" sz="3200" spc="-1" strike="noStrike">
                <a:solidFill>
                  <a:srgbClr val="ff4f4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ИСКОПАЕМЫХ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4f4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2124000" y="476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уговой грох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5" descr="рис18б"/>
          <p:cNvPicPr/>
          <p:nvPr/>
        </p:nvPicPr>
        <p:blipFill>
          <a:blip r:embed="rId1"/>
          <a:stretch/>
        </p:blipFill>
        <p:spPr>
          <a:xfrm>
            <a:off x="4788000" y="1197000"/>
            <a:ext cx="2914560" cy="30970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4427640" y="44370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короб; 2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сито; 3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опорная конструкция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                          4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направляющее устройство;      5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шибер для регулировки пото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1669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881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85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8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1547640" y="76500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остоинства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050920" y="1341360"/>
            <a:ext cx="48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Отсутствие движущихся ча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омпакт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ысокая производи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627280" y="27813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едостаток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124000" y="3284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Тонкие слои (зарастание си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1042920" y="3933720"/>
            <a:ext cx="720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рименяются в угольной промышленности для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гидравлической классификации угольной пульпы крупностью до 6м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для выделения транспортной воды и шлама перед отсадочными машин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для отмывки магнетита от продуктов грохо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34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4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1979640" y="476280"/>
            <a:ext cx="60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Грохоты типа «ЛИВЕЛЛ», «ТРИСОМАТ», «ТОРВЕЛЛ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597528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1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1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9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722160" y="1071360"/>
            <a:ext cx="7772400" cy="55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и грохоты с волновым движением просеивающей поверхности. По принципу действия  они одинаковы, но разные фирмы-производите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няется для грохочения трудногрохотимых углей с повышенной влажностью и высоким содержанием мелких классов. Грохот состоит из двух входящих один в другой коробов, совершающих линейные колебания в противоположных направлениях. Колебания осуществляются с помощью установленного со стороны загрузки кривошипно-шатунного механизма. Между поперечными связями короба закреплены эластичные карты сита, которые попеременно натягиваются и ослабляю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новое движение просеивающей поверхности обеспечивает высокое ускорение обрабатываемым частицам (до 50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интенсивное разрыхление и переворачивание влажного комкующегося материал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дование резких натяжений участков эластичного сита с последующим их провисанием, а также незначительное увеличение размера отверстий в момент натяжения способствует самоочистке просеивающей поверхности от застрявших трудных зерен, а также препятствует залипанию си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Заголовок 1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сбен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рохо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ЛИВЕЛЛ», «ТРИСОМАТ», «ТОРВЕЛЛ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6572160" cy="5477040"/>
          </a:xfrm>
          <a:prstGeom prst="rect">
            <a:avLst/>
          </a:prstGeom>
          <a:ln w="0">
            <a:noFill/>
          </a:ln>
        </p:spPr>
      </p:pic>
      <p:cxnSp>
        <p:nvCxnSpPr>
          <p:cNvPr id="262" name="Прямая со стрелкой 3"/>
          <p:cNvCxnSpPr/>
          <p:nvPr/>
        </p:nvCxnSpPr>
        <p:spPr>
          <a:xfrm flipV="1">
            <a:off x="1213200" y="5643360"/>
            <a:ext cx="71532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6"/>
          <p:cNvSpPr/>
          <p:nvPr/>
        </p:nvSpPr>
        <p:spPr>
          <a:xfrm>
            <a:off x="357120" y="6286680"/>
            <a:ext cx="257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сеивающая поверх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1428840" y="1429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ановка грох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65" name="Прямая со стрелкой 15"/>
          <p:cNvCxnSpPr/>
          <p:nvPr/>
        </p:nvCxnSpPr>
        <p:spPr>
          <a:xfrm flipH="1" flipV="1">
            <a:off x="6214320" y="1499760"/>
            <a:ext cx="114372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xtBox 19"/>
          <p:cNvSpPr/>
          <p:nvPr/>
        </p:nvSpPr>
        <p:spPr>
          <a:xfrm>
            <a:off x="7286760" y="1643040"/>
            <a:ext cx="1571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перечные планки для крепления эластичной просеивающей повверх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67" name="Прямая со стрелкой 21"/>
          <p:cNvCxnSpPr/>
          <p:nvPr/>
        </p:nvCxnSpPr>
        <p:spPr>
          <a:xfrm flipH="1">
            <a:off x="6500520" y="4643280"/>
            <a:ext cx="1000800" cy="572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8" name="TextBox 25"/>
          <p:cNvSpPr/>
          <p:nvPr/>
        </p:nvSpPr>
        <p:spPr>
          <a:xfrm>
            <a:off x="7500960" y="45007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щий ви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285920" y="928800"/>
            <a:ext cx="6389640" cy="45320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1643040" y="2858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 транспортрования матери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ые понят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3572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охочение - процесс разделения сыпучих материалов на классы крупности путем просеивания через одно или несколько сит или классификация материала на просеивающих поверхност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ть процесса. Зерна (куски) материала, размер которых больше размера отверстий сита, остаются при просеивании на сите, а зерна меньших размеров проваливаются через отверс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68360" y="1071720"/>
            <a:ext cx="813600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 результате операции грохочения получа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дрешетный продукт, который остается на с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дрешетный продукт, который проваливается через отверстия си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611280" y="2924280"/>
            <a:ext cx="7993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Виды грохочения в зависимости от крупности исходного материала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9640" y="3429000"/>
          <a:ext cx="8075880" cy="2563920"/>
        </p:xfrm>
        <a:graphic>
          <a:graphicData uri="http://schemas.openxmlformats.org/drawingml/2006/table">
            <a:tbl>
              <a:tblPr/>
              <a:tblGrid>
                <a:gridCol w="2692440"/>
                <a:gridCol w="2691000"/>
                <a:gridCol w="269244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ид грохо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рупность исход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атериала, м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азмер отверстия сита, м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рупно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1200 + 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00 - 1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редне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300 + 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0 - 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елко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75 + 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5 - 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онко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10 + 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 - 0,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собо тонко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1 + 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до 0,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0840" y="907560"/>
            <a:ext cx="7823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 технологическому назначению различают четыре вида операций грохоч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26920" y="2060640"/>
            <a:ext cx="8136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спомогатель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едварительное (перед дробилко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Контрольное или поверочное (после дробил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дготовитель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амостоятель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безвоживающее (обесшламливание на грохотах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684360" y="33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иды просеивающих поверхностей грохот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332000" y="1052640"/>
            <a:ext cx="633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ahoma"/>
              </a:rPr>
              <a:t>1. Колосниковые решётк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711600" cy="3557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19"/>
          <p:cNvPicPr/>
          <p:nvPr/>
        </p:nvPicPr>
        <p:blipFill>
          <a:blip r:embed="rId2"/>
          <a:stretch/>
        </p:blipFill>
        <p:spPr>
          <a:xfrm>
            <a:off x="4572000" y="1773360"/>
            <a:ext cx="4175280" cy="1838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684360" y="544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руглое сечение колос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572000" y="378936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Формы сечения колосников: а, б, в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трапециевидная; г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с полукруглой поверхностью; д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ромбическа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е </a:t>
            </a: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рельсы, головкой книз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68360" y="5950080"/>
            <a:ext cx="4608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Применяются для крупного грохочен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651640" y="5950080"/>
            <a:ext cx="259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ahoma"/>
              </a:rPr>
              <a:t>Срок службы – 2500ч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1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1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1835280" y="620640"/>
            <a:ext cx="525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ahoma"/>
              </a:rPr>
              <a:t>2. Листовые сита (решета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2254320"/>
          <a:ext cx="208080" cy="14335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4335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9"/>
          <p:cNvSpPr/>
          <p:nvPr/>
        </p:nvSpPr>
        <p:spPr>
          <a:xfrm>
            <a:off x="1800" y="3687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124000" y="5805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Листовые сита с круглыми отверсти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5" descr="119_image"/>
          <p:cNvPicPr/>
          <p:nvPr/>
        </p:nvPicPr>
        <p:blipFill>
          <a:blip r:embed="rId1"/>
          <a:stretch/>
        </p:blipFill>
        <p:spPr>
          <a:xfrm>
            <a:off x="1332000" y="1341360"/>
            <a:ext cx="597672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1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1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0"/>
          <p:cNvPicPr/>
          <p:nvPr/>
        </p:nvPicPr>
        <p:blipFill>
          <a:blip r:embed="rId1">
            <a:biLevel thresh="50000"/>
            <a:lum bright="6000"/>
          </a:blip>
          <a:stretch/>
        </p:blipFill>
        <p:spPr>
          <a:xfrm>
            <a:off x="611280" y="1844640"/>
            <a:ext cx="7777080" cy="3284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611280" y="9079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Формы и расположение отверстий листовых с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3:41:33Z</dcterms:created>
  <dc:creator>Андрей</dc:creator>
  <dc:description/>
  <dc:language>en-US</dc:language>
  <cp:lastModifiedBy>Султанова Оксана Рафаиловна</cp:lastModifiedBy>
  <dcterms:modified xsi:type="dcterms:W3CDTF">2023-03-30T08:34:02Z</dcterms:modified>
  <cp:revision>74</cp:revision>
  <dc:subject/>
  <dc:title>ПОДГОТОВИТЕЛЬНЫЕ ПРОЦЕССЫ ПРИ ПЕРЕРАБОТКЕ ПОЛЕЗНЫХ ИСКОПАЕМЫХ </dc:title>
</cp:coreProperties>
</file>